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480-556F-4763-AF64-6F653E08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E7F21-C8D5-43FE-8097-D4AD8236B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C8FC-430D-41C5-95D5-05944AF17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1AAA-04BD-46FB-8725-CF5CC7680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BB779-50C6-4993-A4D3-848580E0D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E38D7-CC6E-4018-A3FD-A7F7CFBF7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E1C38-9E4C-468C-A9A7-E1A745E8E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51CC-374F-41A9-B51E-32D72E6B0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F4584-4B21-4ABB-9AFC-D3064AE23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B2FDE-71E0-46F2-B264-2987E140D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BA70A-1926-4AEC-BD35-F7816856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4ACF-C18F-4DA2-A28E-15C12FE36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95F7-E3F4-4905-A888-9A57970D2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ABF3-2809-4236-AE78-DE9119867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54E2-52FE-4690-8F05-6314365E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51413-EA50-42A2-B4CD-FB9FD73E2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6744-C020-4B64-896C-D3813D6196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6A76-4708-4386-B9F6-DEC9AFE35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2B1-A604-44A6-8C82-EC1371BB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8F17-FF5B-439B-986F-7A44694B2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805B-D2C4-4298-A1C4-EF31B8894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B2A4-9427-45DC-A81B-B0C8B6A3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BD0E-00A2-4FE2-9780-9D9E36C80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F3E8-3C70-413F-B1C5-00B10703B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FAB25-CA98-45CD-9BFA-B59EB6B82B71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A69A-92C4-4928-AFF7-29F893BEC649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4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4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4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4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3503d"/>
                </a:solidFill>
                <a:latin typeface="Tahoma"/>
              </a:rPr>
              <a:t>The Olympic Triangle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48769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86e54"/>
                </a:solidFill>
                <a:latin typeface="Arial"/>
              </a:rPr>
              <a:t>by Martin Lewi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Enter your position, magnetic variation and the units to work with. Once completed update annually or when moving locati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2133720"/>
          <a:ext cx="5478480" cy="40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133720"/>
                    <a:ext cx="5478480" cy="40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61920" y="609120"/>
            <a:ext cx="7801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The approximate GPS position of the Course can be transferred to the main program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600200" y="3124080"/>
          <a:ext cx="6629400" cy="29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3124080"/>
                    <a:ext cx="6629400" cy="29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7086600" y="457200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828800" y="1828800"/>
          <a:ext cx="609588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60958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066680" y="609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Return from Setup and select Progra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rot="5426400">
            <a:off x="7772040" y="388584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Reset the program if you are laying a new cours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1828800" y="2286000"/>
          <a:ext cx="599292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286000"/>
                    <a:ext cx="599292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Choose the type of Star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905120" y="2209680"/>
          <a:ext cx="584028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209680"/>
                    <a:ext cx="584028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 rot="16200000">
            <a:off x="2362320" y="434304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Add the GPS position of the</a:t>
            </a:r>
            <a:br>
              <a:rPr sz="2400"/>
            </a:b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 Committee Boat and press “Install”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1676520" y="1905120"/>
          <a:ext cx="6400800" cy="435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905120"/>
                    <a:ext cx="6400800" cy="435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876920" y="5334120"/>
            <a:ext cx="152280" cy="304560"/>
          </a:xfrm>
          <a:prstGeom prst="downArrow">
            <a:avLst>
              <a:gd name="adj1" fmla="val 50000"/>
              <a:gd name="adj2" fmla="val 66148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You will be transferred to the “Start” pag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1447920" y="1676520"/>
          <a:ext cx="6705360" cy="4475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6705360" cy="447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The length of the start line is derived from the  number of boats, their length, and a multiplier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Record the distance of the leeward mark from the start line. Use the toggle button to place the leeward mark in front or behind the start.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42640" y="685440"/>
            <a:ext cx="74674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The Toggle button is used to position the leeward mark in front or behind the star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1600200" y="1905120"/>
          <a:ext cx="655308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905120"/>
                    <a:ext cx="655308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" name=""/>
          <p:cNvSpPr/>
          <p:nvPr/>
        </p:nvSpPr>
        <p:spPr>
          <a:xfrm rot="10800000">
            <a:off x="6705360" y="525744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rot="10800000">
            <a:off x="4876560" y="525744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If you think the starting line is too long or too short alter the multiplier. The IYRU recommends somewhere between 1.1 and 1.5 so the default is an average positi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295280" y="533520"/>
            <a:ext cx="73152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3503d"/>
                </a:solidFill>
                <a:uFillTx/>
                <a:latin typeface="Verdana"/>
              </a:rPr>
              <a:t>Notes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Navigate with the page up and down keys. To jump back to the beginning press Home or press Escape to terminat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The program was produced with reference to ISAF recommendations, and with the help of Bryan Drake to provide a PRO’s perspectiv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1752480" y="1905120"/>
          <a:ext cx="6174000" cy="441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905120"/>
                    <a:ext cx="6174000" cy="44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When the page is complete select the “Race Marks” butt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438280" y="5486400"/>
            <a:ext cx="152640" cy="304920"/>
          </a:xfrm>
          <a:prstGeom prst="downArrow">
            <a:avLst>
              <a:gd name="adj1" fmla="val 50000"/>
              <a:gd name="adj2" fmla="val 66070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5" name=""/>
          <p:cNvGraphicFramePr/>
          <p:nvPr/>
        </p:nvGraphicFramePr>
        <p:xfrm>
          <a:off x="1905120" y="2057400"/>
          <a:ext cx="5844960" cy="4299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5844960" cy="429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Now enter the wind direction and alter the reaching angles and windward leg if required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Finally select “Bearings”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1905120" y="380952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62520" y="548640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Verdana"/>
              </a:rPr>
              <a:t>This page shows the angles and distances for the mark layers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600200" y="1828800"/>
          <a:ext cx="6388200" cy="4370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388200" cy="437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1600200" y="1828800"/>
          <a:ext cx="6464160" cy="442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828800"/>
                    <a:ext cx="6464160" cy="442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Notice the units can be changed and the PRO can rough check the positions with a compass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7848360" y="289548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rot="5400000">
            <a:off x="8076600" y="4876560"/>
            <a:ext cx="152640" cy="304920"/>
          </a:xfrm>
          <a:prstGeom prst="downArrow">
            <a:avLst>
              <a:gd name="adj1" fmla="val 50000"/>
              <a:gd name="adj2" fmla="val 66070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If you select a Gate start</a:t>
            </a:r>
            <a:r>
              <a:rPr b="0" lang="en-US" sz="2800" spc="-1" strike="noStrike">
                <a:solidFill>
                  <a:srgbClr val="63503d"/>
                </a:solidFill>
                <a:latin typeface="Verdana"/>
              </a:rPr>
              <a:t> ….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1905120" y="2057400"/>
          <a:ext cx="5840280" cy="331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2057400"/>
                    <a:ext cx="5840280" cy="331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You will need to lay the leeward mark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first and record its position in the program.</a:t>
            </a:r>
            <a:r>
              <a:rPr b="0" lang="en-GB" sz="2800" spc="-1" strike="noStrike">
                <a:solidFill>
                  <a:srgbClr val="402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Enter the GPS positions for the committee boat and leeward mark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447920" y="1828800"/>
          <a:ext cx="6781680" cy="419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828800"/>
                    <a:ext cx="6781680" cy="41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Install” the readings and the program will open the “Race Marks” pag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Complete the page and select “Bearings” as befor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Complete the page and select “Bearings”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447920" y="1371600"/>
          <a:ext cx="6848280" cy="484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371600"/>
                    <a:ext cx="6848280" cy="48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809880" y="5410080"/>
            <a:ext cx="152640" cy="304920"/>
          </a:xfrm>
          <a:prstGeom prst="downArrow">
            <a:avLst>
              <a:gd name="adj1" fmla="val 50000"/>
              <a:gd name="adj2" fmla="val 66070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Note there is no ODM as it is a Gate start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371600" y="1523880"/>
          <a:ext cx="6934320" cy="46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523880"/>
                    <a:ext cx="6934320" cy="46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This program generates the bearings and distances required to locate the marks of an Olympic course.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The bearings and distances are measured relative to the  committee boat, using a hand held GPS</a:t>
            </a:r>
            <a:r>
              <a:rPr b="0" lang="en-GB" sz="2800" spc="-1" strike="noStrike">
                <a:solidFill>
                  <a:srgbClr val="63503d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Alternatively lay the marks using the Latitude and Longitude readings from the program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This completes the basic setup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48760" y="5664240"/>
            <a:ext cx="8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cd3333"/>
                </a:solidFill>
                <a:latin typeface="Verdana"/>
              </a:rPr>
              <a:t>Star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63503d"/>
                </a:solidFill>
                <a:uFillTx/>
                <a:latin typeface="Verdana"/>
              </a:rPr>
              <a:t>Inland Line starts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With Inland events where you wish to set the largest course possible, send the mark layers directly upwind and downwind to find the limits of the cours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For example, the leeward mark could be positioned 0.15 nautical miles behind the committee boat and the windward mark 0.8 Nm. in front. The windward leg would be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0.8 + 0.15 =  0.95 Nm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402000"/>
                </a:solidFill>
                <a:latin typeface="Verdana"/>
              </a:rPr>
              <a:t>If you select the “Inland” button the calculation will be done automatically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Enter the data, select the position of the leeward mark and Install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676520" y="1828800"/>
          <a:ext cx="6476760" cy="438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6476760" cy="43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rot="10782600">
            <a:off x="6781320" y="3885840"/>
            <a:ext cx="152640" cy="304920"/>
          </a:xfrm>
          <a:prstGeom prst="downArrow">
            <a:avLst>
              <a:gd name="adj1" fmla="val 50000"/>
              <a:gd name="adj2" fmla="val 66070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267080" y="5334120"/>
            <a:ext cx="152640" cy="304560"/>
          </a:xfrm>
          <a:prstGeom prst="downArrow">
            <a:avLst>
              <a:gd name="adj1" fmla="val 50000"/>
              <a:gd name="adj2" fmla="val 65992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600200" y="1752480"/>
          <a:ext cx="6705720" cy="450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752480"/>
                    <a:ext cx="6705720" cy="45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If the gybe mark is in shallow water select the “Gybe mark” butt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543800" y="541008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The Gybe mark can be re-positioned by asking the mark layer to head back towards the middle of the course until he is in deep water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He records the new position and the program works out a new course based on his distance from the windward leg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2362320" y="2209680"/>
          <a:ext cx="5181480" cy="4081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2209680"/>
                    <a:ext cx="5181480" cy="408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Calculates the reduction in the windward leg required to move the Gybe mark into deeper water while preserving the reaching angles. 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10761000">
            <a:off x="3885840" y="457164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3503d"/>
                </a:solidFill>
                <a:uFillTx/>
                <a:latin typeface="Verdana"/>
              </a:rPr>
              <a:t>What happens if the wind changes?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63503d"/>
                </a:solidFill>
                <a:uFillTx/>
                <a:latin typeface="Verdana"/>
              </a:rPr>
              <a:t>For Gate starts</a:t>
            </a: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Enter the new wind direc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If you need to move the leeward mark select “GPS” and “Install” the new positi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The mark positions will be updated</a:t>
            </a:r>
            <a:r>
              <a:rPr b="0" lang="en-GB" sz="2400" spc="-1" strike="noStrike">
                <a:solidFill>
                  <a:srgbClr val="a08366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3503d"/>
                </a:solidFill>
                <a:uFillTx/>
                <a:latin typeface="Verdana"/>
              </a:rPr>
              <a:t>For Line Starts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Enter the new wind direc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entry will be transferred to the “Start” page. A new position for the ODM and leeward mark will be generated, and then the  “Race Marks” page will be updated.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When the leeward mark is laid behind the start line, the course will revolve around the committee boat before and after the star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course revolves around the Committee Boat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828800" y="1828800"/>
          <a:ext cx="62881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62881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1981080" y="1828800"/>
          <a:ext cx="6059520" cy="435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828800"/>
                    <a:ext cx="6059520" cy="435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wind backs 90 degrees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A typical GPS display showing distance and bearing to the committee boa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4" name="bearing&amp;distance" descr=""/>
          <p:cNvPicPr/>
          <p:nvPr/>
        </p:nvPicPr>
        <p:blipFill>
          <a:blip r:embed="rId1"/>
          <a:stretch/>
        </p:blipFill>
        <p:spPr>
          <a:xfrm>
            <a:off x="3352680" y="2209680"/>
            <a:ext cx="2847960" cy="40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When the leeward mark is laid in front of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start lin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Before the start : the course revolves around the committee boa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After the start : the course revolves around the leeward mark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Before the start the course revolves around the committee boa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0" y="2514600"/>
          <a:ext cx="5106960" cy="349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14600"/>
                    <a:ext cx="5106960" cy="349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After the start the course revolves around the leeward mark, so there is no need to move i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438280" y="2819520"/>
          <a:ext cx="4897440" cy="27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2819520"/>
                    <a:ext cx="4897440" cy="27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7" name=""/>
          <p:cNvGraphicFramePr/>
          <p:nvPr/>
        </p:nvGraphicFramePr>
        <p:xfrm>
          <a:off x="1828800" y="1676520"/>
          <a:ext cx="6400800" cy="4574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676520"/>
                    <a:ext cx="6400800" cy="457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Select “Hold Leeward”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91320" y="548640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Now select “Go” to hold the leeward mark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828800" y="2438280"/>
          <a:ext cx="6135840" cy="326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438280"/>
                    <a:ext cx="6135840" cy="326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leeward mark is held. You can now alter the wind directi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752480" y="1752480"/>
          <a:ext cx="6400800" cy="44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752480"/>
                    <a:ext cx="6400800" cy="44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63503d"/>
                </a:solidFill>
                <a:uFillTx/>
                <a:latin typeface="Verdana"/>
              </a:rPr>
              <a:t>Allowing for Current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18" name=""/>
          <p:cNvGraphicFramePr/>
          <p:nvPr/>
        </p:nvGraphicFramePr>
        <p:xfrm>
          <a:off x="1523880" y="1600200"/>
          <a:ext cx="670572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00200"/>
                    <a:ext cx="670572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0" name=""/>
          <p:cNvSpPr/>
          <p:nvPr/>
        </p:nvSpPr>
        <p:spPr>
          <a:xfrm>
            <a:off x="5715000" y="541008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is is the Current page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22" name=""/>
          <p:cNvGraphicFramePr/>
          <p:nvPr/>
        </p:nvGraphicFramePr>
        <p:xfrm>
          <a:off x="1600200" y="1600200"/>
          <a:ext cx="662940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600200"/>
                    <a:ext cx="66294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In this example the current is calculated and a typical time for the beat and run is known from a practice rac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Calculate the current by selecting the “calculate current” button</a:t>
            </a:r>
            <a:r>
              <a:rPr b="0" lang="en-US" sz="2800" spc="-1" strike="noStrike">
                <a:solidFill>
                  <a:srgbClr val="63503d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Press “Calculate” to work out the current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1676520" y="1828800"/>
          <a:ext cx="6400800" cy="444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1828800"/>
                    <a:ext cx="6400800" cy="444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opening page of the program shows accurately drawn reaching angles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1981080" y="1752480"/>
          <a:ext cx="57150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57150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oggle between the Beat and the Ru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447920" y="1523880"/>
          <a:ext cx="6943680" cy="463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943680" cy="463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1" name=""/>
          <p:cNvSpPr/>
          <p:nvPr/>
        </p:nvSpPr>
        <p:spPr>
          <a:xfrm>
            <a:off x="6019920" y="434340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2" name=""/>
          <p:cNvGraphicFramePr/>
          <p:nvPr/>
        </p:nvGraphicFramePr>
        <p:xfrm>
          <a:off x="1447920" y="1676520"/>
          <a:ext cx="7010280" cy="468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676520"/>
                    <a:ext cx="7010280" cy="468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is shows which way to move the mark.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391520" y="4419720"/>
            <a:ext cx="152280" cy="304560"/>
          </a:xfrm>
          <a:prstGeom prst="downArrow">
            <a:avLst>
              <a:gd name="adj1" fmla="val 50000"/>
              <a:gd name="adj2" fmla="val 66148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program reminds you that current compensation is activ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1752480" y="1828800"/>
          <a:ext cx="6477120" cy="451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1828800"/>
                    <a:ext cx="6477120" cy="45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 rot="5400000">
            <a:off x="7010280" y="5334120"/>
            <a:ext cx="152640" cy="304560"/>
          </a:xfrm>
          <a:prstGeom prst="downArrow">
            <a:avLst>
              <a:gd name="adj1" fmla="val 50000"/>
              <a:gd name="adj2" fmla="val 65992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This completes Current compensation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Finally if all else fails!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Select Compass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1447920" y="1447920"/>
          <a:ext cx="6933960" cy="4721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447920"/>
                    <a:ext cx="6933960" cy="472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5" name=""/>
          <p:cNvSpPr/>
          <p:nvPr/>
        </p:nvSpPr>
        <p:spPr>
          <a:xfrm>
            <a:off x="5638680" y="5334120"/>
            <a:ext cx="152640" cy="304560"/>
          </a:xfrm>
          <a:prstGeom prst="downArrow">
            <a:avLst>
              <a:gd name="adj1" fmla="val 50000"/>
              <a:gd name="adj2" fmla="val 65992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You can always do it the old fashioned way!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247" name=""/>
          <p:cNvGraphicFramePr/>
          <p:nvPr/>
        </p:nvGraphicFramePr>
        <p:xfrm>
          <a:off x="2438280" y="1447920"/>
          <a:ext cx="4876920" cy="46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447920"/>
                    <a:ext cx="4876920" cy="46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This is the last slide. It is probably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wise to try out the ‘basic setup’ and when familiar with it move on to the later sections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3503d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Press “Start” to return to the beginning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3503d"/>
                </a:solidFill>
                <a:latin typeface="Verdana"/>
              </a:rPr>
              <a:t>                                                  </a:t>
            </a:r>
            <a:r>
              <a:rPr b="0" i="1" lang="en-GB" sz="2800" spc="-1" strike="noStrike">
                <a:solidFill>
                  <a:srgbClr val="cd3333"/>
                </a:solidFill>
                <a:latin typeface="Verdana"/>
              </a:rPr>
              <a:t>Start</a:t>
            </a: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Help is available on any page of the program by right clicking an empty space.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981080" y="1752480"/>
          <a:ext cx="5715000" cy="436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5715000" cy="43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A local help page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95280" y="1752480"/>
          <a:ext cx="7010640" cy="388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701064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828800" y="1828800"/>
          <a:ext cx="6095880" cy="448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1828800"/>
                    <a:ext cx="6095880" cy="448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142640" y="533520"/>
            <a:ext cx="746748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The first time you run the program 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3503d"/>
                </a:solidFill>
                <a:latin typeface="Verdana"/>
              </a:rPr>
              <a:t>you must complete the “setup” page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2666880"/>
            <a:ext cx="152280" cy="304920"/>
          </a:xfrm>
          <a:prstGeom prst="downArrow">
            <a:avLst>
              <a:gd name="adj1" fmla="val 50000"/>
              <a:gd name="adj2" fmla="val 66226"/>
            </a:avLst>
          </a:prstGeom>
          <a:solidFill>
            <a:srgbClr val="cd3333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2640" y="1218960"/>
            <a:ext cx="7543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63503d"/>
                </a:solidFill>
                <a:uFillTx/>
                <a:latin typeface="Tahoma"/>
              </a:rPr>
              <a:t>Note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3503d"/>
                </a:solidFill>
                <a:latin typeface="Tahoma"/>
              </a:rPr>
              <a:t>In the program:  data is added to the orange boxes, the results are shown in the blue boxes.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63503d"/>
                </a:solidFill>
                <a:latin typeface="Tahoma"/>
              </a:rPr>
              <a:t>The brown buttons at the bottom of the page indicate the most commonly used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19:48:50Z</dcterms:created>
  <dc:creator>martin</dc:creator>
  <dc:description/>
  <dc:language>en-US</dc:language>
  <cp:lastModifiedBy>amd</cp:lastModifiedBy>
  <cp:lastPrinted>2008-01-22T17:01:44Z</cp:lastPrinted>
  <dcterms:modified xsi:type="dcterms:W3CDTF">2010-03-05T16:42:22Z</dcterms:modified>
  <cp:revision>114</cp:revision>
  <dc:subject/>
  <dc:title>The Olympic Triangle</dc:title>
</cp:coreProperties>
</file>